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0FB-6F85-46D8-BAD8-581BAEE6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E1A-A5BF-4657-AD70-1C25EEBF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7B91-E55A-4C53-82F4-1FC4653A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2975-3896-40F2-A04D-8E0BD8C9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5302-9147-403E-A5DB-0F818ADC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8552-B252-4A95-A3EF-27784938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52DD-9142-4407-A599-ACA1212D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8A43-C3ED-4507-91F0-E0E7EE13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BD718-C212-4B32-8E13-6CEA83039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65E7-D418-428A-9ABA-58268926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83A8-4457-4F21-854D-303A29E2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A300-B8DB-45D3-B0CF-1A04A1C1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ECBA-B73A-48A4-AB83-D0E4EC2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18F29-6DEE-4100-B2B1-A4958A95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1DC8-2AA9-42A4-BA68-F550ABA3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36C2-2447-4F5F-BAF8-888803C0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7D24-2905-4DED-9F02-0C3B232E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D61C-0345-4E04-824A-1C5E6A51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4AA-8C81-40D3-B571-89EBC442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39A-1EA6-4EA5-80A1-80116F3D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6480-66A3-4ABC-AE03-FC6F9E46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C688-18E3-408B-8889-7963C968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C5A-65C2-47E4-81D2-235AD362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C36-94CD-4440-A392-DBDCA94C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E5EC-EE7F-4C69-B67C-9D0BA315F37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88EB-8056-40E3-97DC-A737214F3E1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i4RbxI6lgA2BaJzbkF;_ylu=X3oDMTBxaW9zM2M4BHBvcwM0BHNlYwNzcgR2dGlkA0kwODZfMTA4/SIG=1ivvt9h7t/EXP=1220384568/**http%3A//images.search.yahoo.com/images/view%3Fback=http%253A%252F%252Fimages.search.yahoo.com%252Fsearch%252Fimages%253Fp%253DAbraham%252BLincoln%2526fr%253Dyfp-t-501%2526toggle%253D1%2526cop%253Dmss%2526ei%253DUTF-8%26w=439%26h=618%26imgurl=www.myclassiclyrics.com%252Fartist_biographies%252FAbraham_Lincoln_Biography.jpg%26rurl=http%253A%252F%252Frevitalizeyourchurch.blogspot.com%252F2007_03_01_archive.html%26size=44.6kB%26name=Abraham_Lincoln_Biography.jpg%26p=Abraham%2BLincoln%26type=JPG%26oid=328690b98958ebca%26no=4%26tt=125,257%26sigr=120kf29jd%26sigi=128ag1c4b%26sigb=135h64a7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rds.yahoo.com/_ylt=A9G_bDmzS7xIMh4BaiCJzbkF;_ylu=X3oDMTBxaW9zM2M4BHBvcwM0BHNlYwNzcgR2dGlkA0kwODZfMTA4/SIG=1oni3k7kt/EXP=1220386099/**http%3A//images.search.yahoo.com/images/view%3Fback=http%253A%252F%252Fimages.search.yahoo.com%252Fsearch%252Fimages%253Ffr2%253Dsg-gac%2526sado%253D1%2526p%253Ddeclaration%252520of%252520independence%2526fr%253Dyfp-t-501%2526ei%253Dutf-8%2526x%253Dwrt%26w=424%26h=500%26imgurl=static.flickr.com%252F3156%252F2356155400_24faa4dd88.jpg%26rurl=http%253A%252F%252Fwww.flickr.com%252Fphotos%252F24516121%2540N08%252F2356155400%252F%26size=253.1kB%26name=declaration%2Bof%2Bindependence%26p=declaration%2Bof%2Bindependence%26type=JPG%26oid=2340cc74954a8590%26fusr=carly.mauch%26tit=declaration%2Bof%2Bindependence%26hurl=http%253A%252F%252Fwww.flickr.com%252Fphotos%252F24516121%2540N08%252F%26no=4%26tt=38,965%26sigr=11le4ku30%26sigi=11gfs2qri%26sigb=13s3ni43q%26sigh=11aeb8cu9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lcome to U.S. History!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9520" y="1523880"/>
            <a:ext cx="2760840" cy="3886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Image Preview"/>
          <p:cNvPicPr/>
          <p:nvPr/>
        </p:nvPicPr>
        <p:blipFill>
          <a:blip r:embed="rId3"/>
          <a:stretch/>
        </p:blipFill>
        <p:spPr>
          <a:xfrm>
            <a:off x="5334120" y="1523880"/>
            <a:ext cx="23907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5 Questions to Think About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histor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y bother to study Histor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sorts of tools do we use to study history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are some problems studying histo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 you like studying history??? WH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History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 account mostly false, of events mostly unimportant, which are brought about by rulers mostly knaves, and soldiers mostly fool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Ambrose Bierc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ts indeed little more than the register or crimes, follies, &amp; misfortunes of mankind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dward Gibbon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is His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history is an ever evolving story of the past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IS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NOT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JUST A SET OF DATES AND FACTS!!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y do we study i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ose who don’t study it are doomed to repeat the 10</a:t>
            </a:r>
            <a:r>
              <a:rPr b="0" lang="en-US" sz="3200" spc="-1" strike="noStrike" baseline="30000">
                <a:solidFill>
                  <a:srgbClr val="eaeaea"/>
                </a:solidFill>
                <a:latin typeface="Verdana"/>
              </a:rPr>
              <a:t>th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grad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verything has a histor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tells us about why we are the way we are in the pres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ols of the Tra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imary Sources-1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hand info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physical remains (artifact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Geographical records (maps, charts, etc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-Written testimony (diaries, letters, etc.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" descr="Image Preview"/>
          <p:cNvPicPr/>
          <p:nvPr/>
        </p:nvPicPr>
        <p:blipFill>
          <a:blip r:embed="rId1"/>
          <a:stretch/>
        </p:blipFill>
        <p:spPr>
          <a:xfrm>
            <a:off x="5029200" y="1295280"/>
            <a:ext cx="3208320" cy="21891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3657600"/>
            <a:ext cx="2500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ool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. 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Verdana"/>
              </a:rPr>
              <a:t>Secondary sources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Anything not 1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s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han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written long after ev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-ex. (textbooks, research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" descr="Go to fullsize image"/>
          <p:cNvPicPr/>
          <p:nvPr/>
        </p:nvPicPr>
        <p:blipFill>
          <a:blip r:embed="rId1"/>
          <a:stretch/>
        </p:blipFill>
        <p:spPr>
          <a:xfrm>
            <a:off x="5715000" y="1447920"/>
            <a:ext cx="1782720" cy="2209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Modern American History cover"/>
          <p:cNvPicPr/>
          <p:nvPr/>
        </p:nvPicPr>
        <p:blipFill>
          <a:blip r:embed="rId2"/>
          <a:stretch/>
        </p:blipFill>
        <p:spPr>
          <a:xfrm>
            <a:off x="5715000" y="3962520"/>
            <a:ext cx="1798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blems with History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nly the winners write history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erspective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hose history is it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KIPEDIA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ajor Themes we will discuss this year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ace Relations and their impact on u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cial class in the U.S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flict and Conflict resolution in the U.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nections of all of the above…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19:40:38Z</dcterms:created>
  <dc:creator>gx270</dc:creator>
  <dc:description/>
  <dc:language>en-US</dc:language>
  <cp:lastModifiedBy>gx270</cp:lastModifiedBy>
  <dcterms:modified xsi:type="dcterms:W3CDTF">2008-09-01T20:24:14Z</dcterms:modified>
  <cp:revision>3</cp:revision>
  <dc:subject/>
  <dc:title>Welcome to U.S. History!</dc:title>
</cp:coreProperties>
</file>